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D31-8C4D-43DE-9D1B-49B3B6A2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F6F-2D71-43E1-A1C6-361BC465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B94-01C0-4E8B-AD4F-23D3F6F0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167-BC08-4611-A5CF-97C530F6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5D5-6130-4E81-AD81-B9B658E0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FCB1-2B36-4D09-BAF5-581D149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C649-3086-4355-8836-9A853C9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C81B-8166-4062-A2BA-F75D5A6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F81-B777-44B1-AB4B-7AF2B01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BB36-7777-4A5D-B08E-FA8CB68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C0B-35B5-4430-8DF4-CEDFF73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2FB-04A2-4954-888B-86BB98F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222B-8338-4272-A723-300087A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6584-AB6C-4044-9CBC-904B0C3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8B4B-486C-446F-A461-5965C5B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A373-BA8F-4FBA-9A5C-12C057FA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7BE6-F1E5-480A-99F8-C1C550FB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E26-2C6E-4110-AC49-04A8ED68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401-869F-4FE5-9E79-DBD036D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C00-3AA0-4B85-B2E1-6344EB6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C62-5D90-44E9-AEAB-C2B3803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DD0-DD03-4444-B97E-6ADF601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768-D50F-4E7B-987A-47737301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494-F541-41E9-A76F-527DC9D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01080" indent="-189720">
              <a:spcBef>
                <a:spcPts val="9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3" marL="1185840" indent="-1897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4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5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6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B37-4DEA-48A3-98D9-C9AF2B669FC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616680" indent="-237240">
              <a:spcBef>
                <a:spcPts val="9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01080" indent="-189720">
              <a:spcBef>
                <a:spcPts val="9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3" marL="1185840" indent="-1897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4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5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6" marL="1470240" indent="-189720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Multimedi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bs00554_"/>
          <p:cNvPicPr/>
          <p:nvPr/>
        </p:nvPicPr>
        <p:blipFill>
          <a:blip r:embed="rId1"/>
          <a:stretch/>
        </p:blipFill>
        <p:spPr>
          <a:xfrm>
            <a:off x="5181480" y="3227400"/>
            <a:ext cx="3594240" cy="31370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7695720" y="6400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CECS 5110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Growth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User Standpo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280" y="1828440"/>
            <a:ext cx="8334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User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 longer only lectures and/or printed materia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sequence of the material, any time, anywhere, any modal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dividualiz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dress different learning styles and nee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er decides how material is presented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isual, audio, text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justing level of difficul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Growth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User Standpoint 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ctio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e processes: simulations, acting out a play, testing knowledge and feedbac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500 Nations, Grandma and Me , Magic School B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jor Categories of Multimedia Tit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tertai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rporate communic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Picture 4" descr="bd06946_"/>
          <p:cNvPicPr/>
          <p:nvPr/>
        </p:nvPicPr>
        <p:blipFill>
          <a:blip r:embed="rId1"/>
          <a:stretch/>
        </p:blipFill>
        <p:spPr>
          <a:xfrm>
            <a:off x="6019920" y="3672000"/>
            <a:ext cx="2728800" cy="27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jor Categories of Multimedia Tit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ntertai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ames: action and graph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on + storytel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hysical coordination + mental outwit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commodates different learning styles: association vs. experimentation; auditory vs. vis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vides feedback, levels of difficulty, evaluates skills, nonlinear present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Picture 4" descr="bd07175_"/>
          <p:cNvPicPr/>
          <p:nvPr/>
        </p:nvPicPr>
        <p:blipFill>
          <a:blip r:embed="rId1"/>
          <a:stretch/>
        </p:blipFill>
        <p:spPr>
          <a:xfrm>
            <a:off x="6303960" y="1905120"/>
            <a:ext cx="26877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jor Categories of Multimedia Tit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rporate communic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(marketing and trainin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tract attention to a mess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duct catalogs, published magazines, touch-screen kiosks, online shopping, 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ockholder's meeting, sales rep pitch, conference speaker, employee orientation and training, 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Picture 1031" descr="bd04990_"/>
          <p:cNvPicPr/>
          <p:nvPr/>
        </p:nvPicPr>
        <p:blipFill>
          <a:blip r:embed="rId1"/>
          <a:stretch/>
        </p:blipFill>
        <p:spPr>
          <a:xfrm>
            <a:off x="6477120" y="2133720"/>
            <a:ext cx="259056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jor Categories of Multimedia Tit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D: encyclopedias, census data, directories, dictiona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1" name="Picture 5" descr="bs00256_"/>
          <p:cNvPicPr/>
          <p:nvPr/>
        </p:nvPicPr>
        <p:blipFill>
          <a:blip r:embed="rId1"/>
          <a:stretch/>
        </p:blipFill>
        <p:spPr>
          <a:xfrm>
            <a:off x="3051000" y="3809880"/>
            <a:ext cx="2781360" cy="27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livering Multi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act dis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expensive, easy mass produce and distribu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Kio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uter system to access info, perform transactions or play gam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venience, reduces personnel costs, but expensive mainten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b pages, product advertisement, demos, 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566720" y="2998800"/>
            <a:ext cx="666288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r. Vicky Cerei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Picture 11" descr="j0238268"/>
          <p:cNvPicPr/>
          <p:nvPr/>
        </p:nvPicPr>
        <p:blipFill>
          <a:blip r:embed="rId1"/>
          <a:stretch/>
        </p:blipFill>
        <p:spPr>
          <a:xfrm>
            <a:off x="3581280" y="43434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Multimedi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ultimedi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is a computer-based interactive communications process that incorporates text, graphics, sound, animation, and vide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teracti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ey feature of multimed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er determines what content is delivered, when it is delivered and h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on-line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uter-based Multi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 or more me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 multimed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-sensory experience – real wor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-sensory memory imprin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fferent learning styles bene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ypertext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n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ypermedia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ypermedia w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Picture 4" descr="j0223438"/>
          <p:cNvPicPr/>
          <p:nvPr/>
        </p:nvPicPr>
        <p:blipFill>
          <a:blip r:embed="rId1"/>
          <a:stretch/>
        </p:blipFill>
        <p:spPr>
          <a:xfrm>
            <a:off x="6934320" y="3441600"/>
            <a:ext cx="205740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ermed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590560"/>
            <a:ext cx="795816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sed on cognitive theories of how people structure knowledge and how they lear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nks to navig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n-sequential navig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Picture 4" descr="bd07224_"/>
          <p:cNvPicPr/>
          <p:nvPr/>
        </p:nvPicPr>
        <p:blipFill>
          <a:blip r:embed="rId1"/>
          <a:stretch/>
        </p:blipFill>
        <p:spPr>
          <a:xfrm>
            <a:off x="6603840" y="3886200"/>
            <a:ext cx="2159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ermedia Appli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structional course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ropriately introduc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llow-up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eacher and students’ own cre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1028" descr="bd10702_"/>
          <p:cNvPicPr/>
          <p:nvPr/>
        </p:nvPicPr>
        <p:blipFill>
          <a:blip r:embed="rId1"/>
          <a:stretch/>
        </p:blipFill>
        <p:spPr>
          <a:xfrm>
            <a:off x="4724280" y="4343400"/>
            <a:ext cx="426744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Adva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rossing – deep involv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ulti-sensor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reates knowledge connec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dividualiz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er and student cre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Picture 4" descr="ph01964j"/>
          <p:cNvPicPr/>
          <p:nvPr/>
        </p:nvPicPr>
        <p:blipFill>
          <a:blip r:embed="rId1"/>
          <a:stretch/>
        </p:blipFill>
        <p:spPr>
          <a:xfrm>
            <a:off x="7086600" y="2971800"/>
            <a:ext cx="1981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Disadvanta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t in cyberspace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ck of struct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n-interactive – if one-way, no feedb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xt intensive conten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mplex to cre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ime consum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gnitive overlo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near cont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9" name="Picture 1028" descr="bs01647_"/>
          <p:cNvPicPr/>
          <p:nvPr/>
        </p:nvPicPr>
        <p:blipFill>
          <a:blip r:embed="rId1"/>
          <a:stretch/>
        </p:blipFill>
        <p:spPr>
          <a:xfrm>
            <a:off x="6162840" y="4114800"/>
            <a:ext cx="2523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Grow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3124080"/>
            <a:ext cx="79581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keting Standpo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ser Standpo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icture 1028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192708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media Growth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arketing Standpo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1980720"/>
            <a:ext cx="8029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uter pri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92 – 1 mil - $2,500 or $1,000 upgra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96 – 24 mil - $1,500 or $300 upgra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ultimedia tit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92 – 5,000 - $1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96 – 15,000 - $3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“killer application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added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hances computer u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7" descr="bs02064_"/>
          <p:cNvPicPr/>
          <p:nvPr/>
        </p:nvPicPr>
        <p:blipFill>
          <a:blip r:embed="rId1"/>
          <a:stretch/>
        </p:blipFill>
        <p:spPr>
          <a:xfrm>
            <a:off x="6858000" y="4343400"/>
            <a:ext cx="1450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6:54:36Z</dcterms:created>
  <dc:creator>The Human Race</dc:creator>
  <dc:description/>
  <dc:language>en-US</dc:language>
  <cp:lastModifiedBy>amason</cp:lastModifiedBy>
  <cp:lastPrinted>2001-08-30T00:27:20Z</cp:lastPrinted>
  <dcterms:modified xsi:type="dcterms:W3CDTF">2012-01-18T16:21:30Z</dcterms:modified>
  <cp:revision>50</cp:revision>
  <dc:subject/>
  <dc:title>Chap 1 - What is Multimedia</dc:title>
</cp:coreProperties>
</file>